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1182-DE9A-4CB8-A245-E9E420A5F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9040-E2C9-48C2-9404-938CB17FE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4C8-124F-45AF-8369-F01F6C8A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157-7B22-4C66-9D6E-91CE4F32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847-EA10-42FB-A58D-03D11151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BBB-1D87-4120-A5DB-A29B6D75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1AC-581F-45F3-94D2-EEA2B0B3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59F-7544-4335-A78F-B8F11DF7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A4F-6481-4442-9AD5-385C7A7C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6C5-F368-48F8-BD6F-EDF37A48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FA5-2FA1-491A-98C0-D02B908E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F01F-C3B5-4994-8D8A-1C6CA1CE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DBF-C4DF-4A04-8784-6AAC16A8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F03-8E0B-4F20-8BFC-4027E044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3497-BBEE-4D2A-9981-581B253C3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imah Mun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llamo Naimah. Yo tengo catorce años. Yo vivo en New York. Mis dos hermanos esta fuerte. Mis dos hermanas esta buena.Yo soy joven y divertid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8:27:01Z</dcterms:modified>
  <cp:revision>103</cp:revision>
  <dc:subject/>
  <dc:title>Profile</dc:title>
</cp:coreProperties>
</file>